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82B8-1FFF-4851-A6E9-04B741CB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4083-F2AF-440D-A6B3-B86D61A7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52A-21D0-4845-A3AE-B44F476F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493B-D10F-406A-B10E-7DFE7629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231-6653-4523-9F5D-E9034B77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2DEB-A771-4AA6-A8F0-AC16D91C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09F3-DADF-4B10-A925-72A01111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5C6C-039F-415C-93E4-4F49C87A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BAD-A841-4AC4-88C3-B7451DB7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5050-B430-4D41-B77F-35AF9AA3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3994-DF87-4214-971D-B836D406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5D32-E625-4879-8562-7DEA3CB3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4B20-A30D-40B8-BCAC-39F0ABA17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oetry Through SL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38280" y="1447920"/>
            <a:ext cx="5181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esson in sound &amp; Rhy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57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28800" y="55627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989600"/>
            <a:ext cx="5486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828800" y="2819520"/>
            <a:ext cx="3200400" cy="3124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181480" y="281952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7772400" y="62485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O. Dolan GED 565 Summer, 2010 - rdolan1@hot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5ACA-EB14-44AA-96CC-BF7A153643E2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werful WORDS, moving B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etry sl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mpetition at which poets read or recite origi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etry sl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often very political. Poets talk about cultural, social or racial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238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7772400" y="61722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1828800" y="6248520"/>
            <a:ext cx="533520" cy="280800"/>
          </a:xfrm>
          <a:custGeom>
            <a:avLst/>
            <a:gdLst>
              <a:gd name="textAreaLeft" fmla="*/ 18000 w 533520"/>
              <a:gd name="textAreaRight" fmla="*/ 515520 w 533520"/>
              <a:gd name="textAreaTop" fmla="*/ 18000 h 280800"/>
              <a:gd name="textAreaBottom" fmla="*/ 262800 h 280800"/>
            </a:gdLst>
            <a:ahLst/>
            <a:rect l="textAreaLeft" t="textAreaTop" r="textAreaRight" b="textAreaBottom"/>
            <a:pathLst>
              <a:path w="41015" h="21600">
                <a:moveTo>
                  <a:pt x="0" y="0"/>
                </a:moveTo>
                <a:lnTo>
                  <a:pt x="41015" y="0"/>
                </a:lnTo>
                <a:lnTo>
                  <a:pt x="41015" y="21600"/>
                </a:lnTo>
                <a:lnTo>
                  <a:pt x="0" y="21600"/>
                </a:lnTo>
                <a:close/>
              </a:path>
              <a:path fill="lightenLess" w="41015" h="21600">
                <a:moveTo>
                  <a:pt x="0" y="0"/>
                </a:moveTo>
                <a:lnTo>
                  <a:pt x="41015" y="0"/>
                </a:lnTo>
                <a:lnTo>
                  <a:pt x="39615" y="1400"/>
                </a:lnTo>
                <a:lnTo>
                  <a:pt x="1400" y="1400"/>
                </a:lnTo>
                <a:close/>
              </a:path>
              <a:path fill="darken" w="41015" h="21600">
                <a:moveTo>
                  <a:pt x="41015" y="0"/>
                </a:moveTo>
                <a:lnTo>
                  <a:pt x="41015" y="21600"/>
                </a:lnTo>
                <a:lnTo>
                  <a:pt x="39615" y="20200"/>
                </a:lnTo>
                <a:lnTo>
                  <a:pt x="39615" y="1400"/>
                </a:lnTo>
                <a:close/>
              </a:path>
              <a:path fill="darkenLess" w="41015" h="21600">
                <a:moveTo>
                  <a:pt x="41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15" y="20200"/>
                </a:lnTo>
                <a:close/>
              </a:path>
              <a:path fill="lighten" w="41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15" h="21600">
                <a:moveTo>
                  <a:pt x="13501" y="10800"/>
                </a:moveTo>
                <a:lnTo>
                  <a:pt x="27514" y="3794"/>
                </a:lnTo>
                <a:lnTo>
                  <a:pt x="27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firstslide"/>
          </p:cNvPr>
          <p:cNvSpPr/>
          <p:nvPr/>
        </p:nvSpPr>
        <p:spPr>
          <a:xfrm>
            <a:off x="8839080" y="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O. Dolan GED 565 Summer, 2010 - rdolan1@hot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59F0-397D-4590-9D1A-77E04D9686F7}" type="slidenum">
              <a:t>2</a:t>
            </a:fld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r it. SEE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s is placed on certain syllables to produce a “percussive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derlined words are the ones the poet chooses to “stress,” or speak more loudly or clearly. Try reading it that way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638680" y="11430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Product of tv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There is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Kristen ITC"/>
              </a:rPr>
              <a:t>nothing</a:t>
            </a: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 i can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Kristen ITC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I’m just a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Kristen ITC"/>
              </a:rPr>
              <a:t>product </a:t>
            </a: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of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Kristen ITC"/>
              </a:rPr>
              <a:t>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and lipton jingeler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Kristen ITC"/>
              </a:rPr>
              <a:t>tea</a:t>
            </a: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 ba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have more flav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I can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Kristen ITC"/>
              </a:rPr>
              <a:t>tell</a:t>
            </a: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 you this stra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an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Kristen ITC"/>
              </a:rPr>
              <a:t>smile </a:t>
            </a: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without a dou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It's true m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cause i saw it watc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neighb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By </a:t>
            </a:r>
            <a:r>
              <a:rPr b="0" i="1" lang="en-US" sz="2000" spc="-1" strike="noStrike">
                <a:solidFill>
                  <a:srgbClr val="000000"/>
                </a:solidFill>
                <a:latin typeface="Kristen ITC"/>
              </a:rPr>
              <a:t>Neil Edw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620120" y="6172200"/>
            <a:ext cx="685800" cy="357120"/>
          </a:xfrm>
          <a:custGeom>
            <a:avLst/>
            <a:gdLst>
              <a:gd name="textAreaLeft" fmla="*/ 23040 w 685800"/>
              <a:gd name="textAreaRight" fmla="*/ 662760 w 685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1460" h="21600">
                <a:moveTo>
                  <a:pt x="0" y="0"/>
                </a:moveTo>
                <a:lnTo>
                  <a:pt x="41460" y="0"/>
                </a:lnTo>
                <a:lnTo>
                  <a:pt x="41460" y="21600"/>
                </a:lnTo>
                <a:lnTo>
                  <a:pt x="0" y="21600"/>
                </a:lnTo>
                <a:close/>
              </a:path>
              <a:path fill="lightenLess" w="41460" h="21600">
                <a:moveTo>
                  <a:pt x="0" y="0"/>
                </a:moveTo>
                <a:lnTo>
                  <a:pt x="41460" y="0"/>
                </a:lnTo>
                <a:lnTo>
                  <a:pt x="40060" y="1400"/>
                </a:lnTo>
                <a:lnTo>
                  <a:pt x="1400" y="1400"/>
                </a:lnTo>
                <a:close/>
              </a:path>
              <a:path fill="darken" w="41460" h="21600">
                <a:moveTo>
                  <a:pt x="41460" y="0"/>
                </a:moveTo>
                <a:lnTo>
                  <a:pt x="41460" y="21600"/>
                </a:lnTo>
                <a:lnTo>
                  <a:pt x="40060" y="20200"/>
                </a:lnTo>
                <a:lnTo>
                  <a:pt x="40060" y="1400"/>
                </a:lnTo>
                <a:close/>
              </a:path>
              <a:path fill="darkenLess" w="41460" h="21600">
                <a:moveTo>
                  <a:pt x="414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60" y="20200"/>
                </a:lnTo>
                <a:close/>
              </a:path>
              <a:path fill="lighten" w="414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60" h="21600">
                <a:moveTo>
                  <a:pt x="13723" y="3794"/>
                </a:moveTo>
                <a:lnTo>
                  <a:pt x="27736" y="10800"/>
                </a:lnTo>
                <a:lnTo>
                  <a:pt x="137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304920" y="617220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firstslide"/>
          </p:cNvPr>
          <p:cNvSpPr/>
          <p:nvPr/>
        </p:nvSpPr>
        <p:spPr>
          <a:xfrm>
            <a:off x="8534520" y="0"/>
            <a:ext cx="433440" cy="304920"/>
          </a:xfrm>
          <a:custGeom>
            <a:avLst/>
            <a:gdLst>
              <a:gd name="textAreaLeft" fmla="*/ 19440 w 433440"/>
              <a:gd name="textAreaRight" fmla="*/ 414000 w 433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0693" h="21600">
                <a:moveTo>
                  <a:pt x="0" y="0"/>
                </a:moveTo>
                <a:lnTo>
                  <a:pt x="30693" y="0"/>
                </a:lnTo>
                <a:lnTo>
                  <a:pt x="30693" y="21600"/>
                </a:lnTo>
                <a:lnTo>
                  <a:pt x="0" y="21600"/>
                </a:lnTo>
                <a:close/>
              </a:path>
              <a:path fill="lightenLess" w="30693" h="21600">
                <a:moveTo>
                  <a:pt x="0" y="0"/>
                </a:moveTo>
                <a:lnTo>
                  <a:pt x="30693" y="0"/>
                </a:lnTo>
                <a:lnTo>
                  <a:pt x="29293" y="1400"/>
                </a:lnTo>
                <a:lnTo>
                  <a:pt x="1400" y="1400"/>
                </a:lnTo>
                <a:close/>
              </a:path>
              <a:path fill="darken" w="30693" h="21600">
                <a:moveTo>
                  <a:pt x="30693" y="0"/>
                </a:moveTo>
                <a:lnTo>
                  <a:pt x="30693" y="21600"/>
                </a:lnTo>
                <a:lnTo>
                  <a:pt x="29293" y="20200"/>
                </a:lnTo>
                <a:lnTo>
                  <a:pt x="29293" y="1400"/>
                </a:lnTo>
                <a:close/>
              </a:path>
              <a:path fill="darkenLess" w="30693" h="21600">
                <a:moveTo>
                  <a:pt x="30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93" y="20200"/>
                </a:lnTo>
                <a:close/>
              </a:path>
              <a:path fill="lighten" w="30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93" h="21600">
                <a:moveTo>
                  <a:pt x="15347" y="3837"/>
                </a:moveTo>
                <a:lnTo>
                  <a:pt x="17923" y="6448"/>
                </a:lnTo>
                <a:lnTo>
                  <a:pt x="17923" y="4707"/>
                </a:lnTo>
                <a:lnTo>
                  <a:pt x="19699" y="4707"/>
                </a:lnTo>
                <a:lnTo>
                  <a:pt x="19699" y="8224"/>
                </a:lnTo>
                <a:lnTo>
                  <a:pt x="22310" y="10800"/>
                </a:lnTo>
                <a:lnTo>
                  <a:pt x="20656" y="10800"/>
                </a:lnTo>
                <a:lnTo>
                  <a:pt x="20656" y="17989"/>
                </a:lnTo>
                <a:lnTo>
                  <a:pt x="10037" y="17989"/>
                </a:lnTo>
                <a:lnTo>
                  <a:pt x="10037" y="10800"/>
                </a:lnTo>
                <a:lnTo>
                  <a:pt x="8384" y="10800"/>
                </a:lnTo>
                <a:close/>
              </a:path>
              <a:path fill="darkenLess" w="30693" h="21600">
                <a:moveTo>
                  <a:pt x="17923" y="6448"/>
                </a:moveTo>
                <a:lnTo>
                  <a:pt x="17923" y="4707"/>
                </a:lnTo>
                <a:lnTo>
                  <a:pt x="19699" y="4707"/>
                </a:lnTo>
                <a:lnTo>
                  <a:pt x="19699" y="8224"/>
                </a:lnTo>
                <a:close/>
              </a:path>
              <a:path fill="darkenLess" w="30693" h="21600">
                <a:moveTo>
                  <a:pt x="14424" y="14299"/>
                </a:moveTo>
                <a:lnTo>
                  <a:pt x="16269" y="14299"/>
                </a:lnTo>
                <a:lnTo>
                  <a:pt x="16269" y="17989"/>
                </a:lnTo>
                <a:lnTo>
                  <a:pt x="20656" y="17989"/>
                </a:lnTo>
                <a:lnTo>
                  <a:pt x="20656" y="10800"/>
                </a:lnTo>
                <a:lnTo>
                  <a:pt x="10037" y="10800"/>
                </a:lnTo>
                <a:lnTo>
                  <a:pt x="10037" y="17989"/>
                </a:lnTo>
                <a:lnTo>
                  <a:pt x="1442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4419720"/>
            <a:ext cx="1905120" cy="1295280"/>
          </a:xfrm>
          <a:prstGeom prst="wedgeRoundRectCallout">
            <a:avLst>
              <a:gd name="adj1" fmla="val -77416"/>
              <a:gd name="adj2" fmla="val 352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Verdana"/>
              </a:rPr>
              <a:t>Try reading this aloud with friend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3886200" y="426708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O. Dolan GED 565 Summer, 2010 - rdolan1@hotmail.co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E1F-87F0-4ECD-B1C3-8A4D7A13C40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BEAT goes 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981080" y="1295280"/>
            <a:ext cx="5029200" cy="2975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520" y="4648320"/>
            <a:ext cx="71625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percussive, meaning that the words are spoken with rhythm and fo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here to watch/listen to Bassey Ipki perfor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238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7772400" y="61722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8839080" y="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1828800" y="6248520"/>
            <a:ext cx="533520" cy="280800"/>
          </a:xfrm>
          <a:custGeom>
            <a:avLst/>
            <a:gdLst>
              <a:gd name="textAreaLeft" fmla="*/ 18000 w 533520"/>
              <a:gd name="textAreaRight" fmla="*/ 515520 w 533520"/>
              <a:gd name="textAreaTop" fmla="*/ 18000 h 280800"/>
              <a:gd name="textAreaBottom" fmla="*/ 262800 h 280800"/>
            </a:gdLst>
            <a:ahLst/>
            <a:rect l="textAreaLeft" t="textAreaTop" r="textAreaRight" b="textAreaBottom"/>
            <a:pathLst>
              <a:path w="41015" h="21600">
                <a:moveTo>
                  <a:pt x="0" y="0"/>
                </a:moveTo>
                <a:lnTo>
                  <a:pt x="41015" y="0"/>
                </a:lnTo>
                <a:lnTo>
                  <a:pt x="41015" y="21600"/>
                </a:lnTo>
                <a:lnTo>
                  <a:pt x="0" y="21600"/>
                </a:lnTo>
                <a:close/>
              </a:path>
              <a:path fill="lightenLess" w="41015" h="21600">
                <a:moveTo>
                  <a:pt x="0" y="0"/>
                </a:moveTo>
                <a:lnTo>
                  <a:pt x="41015" y="0"/>
                </a:lnTo>
                <a:lnTo>
                  <a:pt x="39615" y="1400"/>
                </a:lnTo>
                <a:lnTo>
                  <a:pt x="1400" y="1400"/>
                </a:lnTo>
                <a:close/>
              </a:path>
              <a:path fill="darken" w="41015" h="21600">
                <a:moveTo>
                  <a:pt x="41015" y="0"/>
                </a:moveTo>
                <a:lnTo>
                  <a:pt x="41015" y="21600"/>
                </a:lnTo>
                <a:lnTo>
                  <a:pt x="39615" y="20200"/>
                </a:lnTo>
                <a:lnTo>
                  <a:pt x="39615" y="1400"/>
                </a:lnTo>
                <a:close/>
              </a:path>
              <a:path fill="darkenLess" w="41015" h="21600">
                <a:moveTo>
                  <a:pt x="41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15" y="20200"/>
                </a:lnTo>
                <a:close/>
              </a:path>
              <a:path fill="lighten" w="41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15" h="21600">
                <a:moveTo>
                  <a:pt x="13501" y="10800"/>
                </a:moveTo>
                <a:lnTo>
                  <a:pt x="27514" y="3794"/>
                </a:lnTo>
                <a:lnTo>
                  <a:pt x="27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2286000"/>
            <a:ext cx="1600200" cy="1371600"/>
          </a:xfrm>
          <a:prstGeom prst="cloudCallout">
            <a:avLst>
              <a:gd name="adj1" fmla="val -24703"/>
              <a:gd name="adj2" fmla="val 68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Verdana"/>
              </a:rPr>
              <a:t>Hey! Check it ou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72" idx="0"/>
            <a:endCxn id="67" idx="1"/>
          </p:cNvCxnSpPr>
          <p:nvPr/>
        </p:nvCxnSpPr>
        <p:spPr>
          <a:xfrm rot="5400000">
            <a:off x="3977640" y="1604880"/>
            <a:ext cx="1440360" cy="6044040"/>
          </a:xfrm>
          <a:prstGeom prst="curvedConnector5">
            <a:avLst>
              <a:gd name="adj1" fmla="val 17075"/>
              <a:gd name="adj2" fmla="val 51888"/>
              <a:gd name="adj3" fmla="val 170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O. Dolan GED 565 Summer, 2010 - rdolan1@hot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E05-43EC-48D1-A7B8-773C7712DCC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, It’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am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all poetry, happens when words are placed together crea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 partner, write a bunch of words on paper – as many as you can think o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, cut them out…and rearrange them like refrigerator poem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competing with other grou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w you’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la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oe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407000">
            <a:off x="4800600" y="5257800"/>
            <a:ext cx="762120" cy="8380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3352680" cy="3230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238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O. Dolan GED 565 Summer, 2010 - rdolan1@hot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5FE4-7905-4AD1-B913-C41A9EEFAF59}" type="slidenum">
              <a:t>5</a:t>
            </a:fld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ant to LEARN mo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99840" y="3885840"/>
            <a:ext cx="75438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owerPoint lesson was created by Mr. Dolan, Language 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here for an interesting site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just lik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eting? Check this ou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2884320" cy="218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095880" y="1143000"/>
            <a:ext cx="2266920" cy="2666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5238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O. Dolan GED 565 Summer, 2010 - rdolan1@hot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69D8-39FF-4B41-B66E-E167A16C8F7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3889080" cy="295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O. Dolan GED 565 Summer, 2010 - rdolan1@hotmail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C8FD-C9D1-44F1-B487-90AEE0249B63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4:03Z</dcterms:created>
  <dc:creator>Administrator</dc:creator>
  <dc:description/>
  <dc:language>en-US</dc:language>
  <cp:lastModifiedBy>Administrator</cp:lastModifiedBy>
  <dcterms:modified xsi:type="dcterms:W3CDTF">2010-06-13T21:00:44Z</dcterms:modified>
  <cp:revision>14</cp:revision>
  <dc:subject/>
  <dc:title>Poetry Through SLAM</dc:title>
</cp:coreProperties>
</file>